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DE3-D56A-405E-A2F0-FCB667CB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153-D579-4BE4-B1FB-E1D3ACC5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137-A5B3-44C6-9C0F-260C47CF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B09-C79B-49F5-A75D-AED3BF32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FD2-8BD6-4D76-80E2-2F44B236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4CA-E56A-4749-86B6-D80A7962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CE8-331A-4AE9-AA54-F519C34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67B-2D6D-418E-B6B9-877AAE7F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1E5-9A32-462C-A725-5B79C85D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3F7-2259-4883-B875-4EA3FDCE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AE1-D4BB-4FC8-BD43-A2635C80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D1E-E78A-4041-864B-DA8A946E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1473-B20A-4443-8976-CDF1266945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ndonscn.nhs.uk/wp-content/uploads/2015/07/cyp-asthma-stds-062015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brit-thoracic.org.uk/document-library/clinical-information/asthma/btssign-asthma-guideline-2014/" TargetMode="External"/><Relationship Id="rId2" Type="http://schemas.openxmlformats.org/officeDocument/2006/relationships/hyperlink" Target="https://www.nice.org.uk/guidance/qs25" TargetMode="External"/><Relationship Id="rId3" Type="http://schemas.openxmlformats.org/officeDocument/2006/relationships/hyperlink" Target="http://www.ncsct.co.uk/publication_very-brief-advice.php" TargetMode="External"/><Relationship Id="rId4" Type="http://schemas.openxmlformats.org/officeDocument/2006/relationships/hyperlink" Target="http://www.itchysneezywheezy.co.uk/" TargetMode="External"/><Relationship Id="rId5" Type="http://schemas.openxmlformats.org/officeDocument/2006/relationships/hyperlink" Target="https://www.asthma.org.uk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brit-thoracic.org.uk/document-library/clinical-information/asthma/btssign-asthma-guideline-2014/" TargetMode="External"/><Relationship Id="rId2" Type="http://schemas.openxmlformats.org/officeDocument/2006/relationships/hyperlink" Target="https://www.nice.org.uk/guidance/qs25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43280" y="1109520"/>
            <a:ext cx="3600360" cy="52020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overnance of paediatric asthma/preschool wheeze in Hillingd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59080" y="1889280"/>
            <a:ext cx="2770200" cy="45900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ll organisations/services (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Box 1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) within Hillingdon borough must have a named lead responsible and accountable for asthma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259080" y="3181320"/>
            <a:ext cx="277020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YP and families are actively involved in reviewing local services provision and giving feedback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259080" y="2585880"/>
            <a:ext cx="277020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Quarterly strategic meetings  (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Box 2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) with named leads to plan and deliver asthma service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146160" y="1760400"/>
            <a:ext cx="2460600" cy="118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Box 1:  Service to be represente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GP Pract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Hospital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Urgent Care Cent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chool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Health Visitor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CYP and families representativ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harmacy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31, 36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146160" y="3052800"/>
            <a:ext cx="2460600" cy="1310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Box 2:  Strategic meeting to focus 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hared protocols and guidelin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Regular assessment of performan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Workforce plann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ervice improveme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udit programme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Development of unified IT systems for asthma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CYP and family feedback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0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Transition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33, 34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rescribing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36, 37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961920" y="5084640"/>
            <a:ext cx="7128000" cy="73332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is pathway is underpinned by the London Asthma Standards for Children and Young People published June 2015to which all references relat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londonscn.nhs.uk/wp-content/uploads/2015/07/cyp-asthma-stds-062015.pdf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2"/>
          <p:cNvCxnSpPr/>
          <p:nvPr/>
        </p:nvCxnSpPr>
        <p:spPr>
          <a:xfrm>
            <a:off x="4642920" y="1631520"/>
            <a:ext cx="1080" cy="2581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13"/>
          <p:cNvCxnSpPr/>
          <p:nvPr/>
        </p:nvCxnSpPr>
        <p:spPr>
          <a:xfrm>
            <a:off x="4642920" y="2328840"/>
            <a:ext cx="1080" cy="257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4"/>
          <p:cNvCxnSpPr/>
          <p:nvPr/>
        </p:nvCxnSpPr>
        <p:spPr>
          <a:xfrm>
            <a:off x="4642920" y="2924280"/>
            <a:ext cx="1080" cy="257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547640" y="162000"/>
            <a:ext cx="6336000" cy="52020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New presentation of possible asthma/ preschool wheeze to primary care (Non-acut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780000" y="693720"/>
            <a:ext cx="4392360" cy="45900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Initial assessment and diagnosis according to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ea typeface="Arabic Typesetting"/>
                <a:hlinkClick r:id="rId1"/>
              </a:rPr>
              <a:t>BTS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 and 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ea typeface="Arabic Typesetting"/>
                <a:hlinkClick r:id="rId2"/>
              </a:rPr>
              <a:t>NICE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guidance 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14)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se EMIS Template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hildren should be seen in an 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‘Asthma friendly clinic’ (Box 1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4591080" y="1415880"/>
            <a:ext cx="2770200" cy="38304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gular 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Structured  asthma review (Box 2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Every</a:t>
            </a:r>
            <a:r>
              <a:rPr b="0" lang="en-GB" sz="1100" spc="-1" strike="noStrike">
                <a:solidFill>
                  <a:srgbClr val="ff0000"/>
                </a:solidFill>
                <a:latin typeface="Calibri"/>
                <a:ea typeface="Arabic Typesetting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3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months according to clinical ne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253120" y="4129200"/>
            <a:ext cx="1550880" cy="82404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fer to Hillingdon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aediatric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spiratory Team with Spirometry and allergy skin testing as requir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Fax …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Email…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4986360" y="3100320"/>
            <a:ext cx="1979640" cy="82404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hild not improv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Diagnostic uncertaint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Not controlled on step 3 BT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arental concer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Input from paediatric asthma nurse would be beneficial for famil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19"/>
          <p:cNvCxnSpPr/>
          <p:nvPr/>
        </p:nvCxnSpPr>
        <p:spPr>
          <a:xfrm>
            <a:off x="5976720" y="477720"/>
            <a:ext cx="1080" cy="216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28"/>
          <p:cNvCxnSpPr>
            <a:stCxn id="52" idx="2"/>
          </p:cNvCxnSpPr>
          <p:nvPr/>
        </p:nvCxnSpPr>
        <p:spPr>
          <a:xfrm>
            <a:off x="5976720" y="1155240"/>
            <a:ext cx="1080" cy="2581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32"/>
          <p:cNvCxnSpPr/>
          <p:nvPr/>
        </p:nvCxnSpPr>
        <p:spPr>
          <a:xfrm>
            <a:off x="5982840" y="1812600"/>
            <a:ext cx="1080" cy="3056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36"/>
          <p:cNvCxnSpPr/>
          <p:nvPr/>
        </p:nvCxnSpPr>
        <p:spPr>
          <a:xfrm>
            <a:off x="6048000" y="3930120"/>
            <a:ext cx="1080" cy="1882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TextBox 43"/>
          <p:cNvSpPr/>
          <p:nvPr/>
        </p:nvSpPr>
        <p:spPr>
          <a:xfrm>
            <a:off x="108000" y="511200"/>
            <a:ext cx="3240000" cy="1919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Box 1:  Asthma friendly clinic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Named lead responsible &amp; accountable for asthma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At least one practice nurse trained in asthma and holds an asthma diploma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3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Trained staff with appropriate training and ongoing education in paediatric asthma at least every three years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3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20-30 minute clinic slots for assessment and management of each patient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5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For each consultation access to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- Asthma control test paperwork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15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- Selection of training de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- Peak flow meters and diari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- Information leaflet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- Signposting to supporting website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- Stop smoking advice/ healthy eating advi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4"/>
          <p:cNvSpPr/>
          <p:nvPr/>
        </p:nvSpPr>
        <p:spPr>
          <a:xfrm>
            <a:off x="101520" y="2565360"/>
            <a:ext cx="2460600" cy="1310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Box 2:  Structured asthma revie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wheeze triggers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6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adherence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inhaler technique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3) 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Control/ Asthma control test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5) 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eak flow monitoring (if applicable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atient/parent understanding of condition.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creened for comorbidities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6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ersonal written management plan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7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Growth monitor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5"/>
          <p:cNvSpPr/>
          <p:nvPr/>
        </p:nvSpPr>
        <p:spPr>
          <a:xfrm>
            <a:off x="108000" y="4005360"/>
            <a:ext cx="2448000" cy="945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Box 3:  Stop smoking advice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7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Hillingdon.gov.uk/stopsmoking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all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0800 169 7541 for advi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Drop in community clinics/pharmacy clinic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nformation leaflets to parent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All health professionals to undertake the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National Centre for Smoking Cessation Training of Very Brief Advi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5510160" y="5221440"/>
            <a:ext cx="1185840" cy="6267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ferral triaged to hospital or community asthma clini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33"/>
          <p:cNvCxnSpPr/>
          <p:nvPr/>
        </p:nvCxnSpPr>
        <p:spPr>
          <a:xfrm>
            <a:off x="6059160" y="4960800"/>
            <a:ext cx="1080" cy="2613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TextBox 31"/>
          <p:cNvSpPr/>
          <p:nvPr/>
        </p:nvSpPr>
        <p:spPr>
          <a:xfrm>
            <a:off x="5070600" y="6006960"/>
            <a:ext cx="1979640" cy="49500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If Difficult Asthma / Diagnostic uncertainty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fer to Tertiary Services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2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84"/>
          <p:cNvCxnSpPr/>
          <p:nvPr/>
        </p:nvCxnSpPr>
        <p:spPr>
          <a:xfrm>
            <a:off x="6067080" y="5732280"/>
            <a:ext cx="1080" cy="262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85"/>
          <p:cNvSpPr/>
          <p:nvPr/>
        </p:nvSpPr>
        <p:spPr>
          <a:xfrm>
            <a:off x="4599000" y="2117880"/>
            <a:ext cx="2768760" cy="70236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Signpost to relevant lifestyle advi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Stop smoking advice (Box 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Obesity management advice (Box 4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Useful websites (Box 5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86"/>
          <p:cNvCxnSpPr/>
          <p:nvPr/>
        </p:nvCxnSpPr>
        <p:spPr>
          <a:xfrm>
            <a:off x="6009840" y="2824200"/>
            <a:ext cx="1080" cy="2782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90"/>
          <p:cNvSpPr/>
          <p:nvPr/>
        </p:nvSpPr>
        <p:spPr>
          <a:xfrm>
            <a:off x="93600" y="5229360"/>
            <a:ext cx="2448000" cy="580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Box 4:  Obesity manageme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Health visitor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Parents can self referral to Mend/Fit Teens cl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ferral to hospital dietician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1"/>
          <p:cNvSpPr/>
          <p:nvPr/>
        </p:nvSpPr>
        <p:spPr>
          <a:xfrm>
            <a:off x="93600" y="5950080"/>
            <a:ext cx="2448000" cy="459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Box 5:  Useful websites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7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tchysneezywheezy.co.uk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www.asthma.org.uk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3276720" y="1430280"/>
            <a:ext cx="250164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hild with acute asthma or pre-school wheez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ge 1-15yrs, in school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3317760" y="2273400"/>
            <a:ext cx="240660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rained staff manages according to school asthma policy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&amp; Asthma Attack Guidelines / Post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47"/>
          <p:cNvCxnSpPr/>
          <p:nvPr/>
        </p:nvCxnSpPr>
        <p:spPr>
          <a:xfrm>
            <a:off x="5279760" y="3473280"/>
            <a:ext cx="1080" cy="4564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traight Arrow Connector 56"/>
          <p:cNvCxnSpPr/>
          <p:nvPr/>
        </p:nvCxnSpPr>
        <p:spPr>
          <a:xfrm>
            <a:off x="4519080" y="1796760"/>
            <a:ext cx="1080" cy="4770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Straight Arrow Connector 75"/>
          <p:cNvCxnSpPr/>
          <p:nvPr/>
        </p:nvCxnSpPr>
        <p:spPr>
          <a:xfrm flipH="1">
            <a:off x="3707640" y="2631960"/>
            <a:ext cx="1080" cy="6026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53"/>
          <p:cNvSpPr/>
          <p:nvPr/>
        </p:nvSpPr>
        <p:spPr>
          <a:xfrm>
            <a:off x="4857840" y="3233880"/>
            <a:ext cx="1217520" cy="21564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No improvemen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55"/>
          <p:cNvCxnSpPr/>
          <p:nvPr/>
        </p:nvCxnSpPr>
        <p:spPr>
          <a:xfrm>
            <a:off x="5268600" y="2631960"/>
            <a:ext cx="1080" cy="6026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34"/>
          <p:cNvCxnSpPr/>
          <p:nvPr/>
        </p:nvCxnSpPr>
        <p:spPr>
          <a:xfrm>
            <a:off x="3708000" y="3448080"/>
            <a:ext cx="1080" cy="3103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xtBox 36"/>
          <p:cNvSpPr/>
          <p:nvPr/>
        </p:nvSpPr>
        <p:spPr>
          <a:xfrm>
            <a:off x="2316240" y="3813120"/>
            <a:ext cx="2244600" cy="82404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arent to collect child from school if required 10 puffs of Salbutamo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Welfare officer/school nurse instruct parents to make appointment with G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arents given letter for GP follow up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Follow School Asthma Surveillance pathwa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9"/>
          <p:cNvSpPr/>
          <p:nvPr/>
        </p:nvSpPr>
        <p:spPr>
          <a:xfrm>
            <a:off x="3403440" y="3233880"/>
            <a:ext cx="609840" cy="21564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Improve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8"/>
          <p:cNvSpPr/>
          <p:nvPr/>
        </p:nvSpPr>
        <p:spPr>
          <a:xfrm>
            <a:off x="4902120" y="3941640"/>
            <a:ext cx="1384560" cy="21564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all 999 &amp; inform parent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2830680" y="765000"/>
            <a:ext cx="3456000" cy="30708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cute asthma presenting in scho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17"/>
          <p:cNvCxnSpPr/>
          <p:nvPr/>
        </p:nvCxnSpPr>
        <p:spPr>
          <a:xfrm>
            <a:off x="4524120" y="1072800"/>
            <a:ext cx="1080" cy="338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868480" y="871560"/>
            <a:ext cx="282096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hild with acute asthma or pre-school wheez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ge 1-15yrs , attends GP practi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2"/>
          <p:cNvSpPr/>
          <p:nvPr/>
        </p:nvSpPr>
        <p:spPr>
          <a:xfrm>
            <a:off x="2679840" y="1484280"/>
            <a:ext cx="328140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Manage  according to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ea typeface="Arabic Typesetting"/>
                <a:hlinkClick r:id="rId1"/>
              </a:rPr>
              <a:t>BTS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nd 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ea typeface="Arabic Typesetting"/>
                <a:hlinkClick r:id="rId2"/>
              </a:rPr>
              <a:t>NICE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guidan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se EMIS Template 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Straight Arrow Connector 56"/>
          <p:cNvCxnSpPr>
            <a:endCxn id="84" idx="0"/>
          </p:cNvCxnSpPr>
          <p:nvPr/>
        </p:nvCxnSpPr>
        <p:spPr>
          <a:xfrm flipH="1">
            <a:off x="4277880" y="626760"/>
            <a:ext cx="8640" cy="244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66"/>
          <p:cNvSpPr/>
          <p:nvPr/>
        </p:nvSpPr>
        <p:spPr>
          <a:xfrm>
            <a:off x="2521080" y="2449440"/>
            <a:ext cx="1655640" cy="33732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Improves and saf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o discharge ho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69"/>
          <p:cNvSpPr/>
          <p:nvPr/>
        </p:nvSpPr>
        <p:spPr>
          <a:xfrm>
            <a:off x="2124000" y="3083040"/>
            <a:ext cx="2332080" cy="58068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Structured discharge review (Box 1)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before discharge  home to identify modifiable risk factors for repeat attac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se EMIS Template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75"/>
          <p:cNvCxnSpPr/>
          <p:nvPr/>
        </p:nvCxnSpPr>
        <p:spPr>
          <a:xfrm flipH="1">
            <a:off x="3320640" y="2100240"/>
            <a:ext cx="7200" cy="34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TextBox 70"/>
          <p:cNvSpPr/>
          <p:nvPr/>
        </p:nvSpPr>
        <p:spPr>
          <a:xfrm>
            <a:off x="2732040" y="3933720"/>
            <a:ext cx="1117800" cy="58068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rrange local asthma review within 6 weeks to check asthma under contro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3"/>
          <p:cNvSpPr/>
          <p:nvPr/>
        </p:nvSpPr>
        <p:spPr>
          <a:xfrm>
            <a:off x="4610160" y="2440080"/>
            <a:ext cx="1468440" cy="33732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No improvemen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fer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o P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ediatric A&amp;E/ 99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55"/>
          <p:cNvCxnSpPr/>
          <p:nvPr/>
        </p:nvCxnSpPr>
        <p:spPr>
          <a:xfrm flipH="1">
            <a:off x="5257080" y="2100240"/>
            <a:ext cx="1080" cy="34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36"/>
          <p:cNvCxnSpPr/>
          <p:nvPr/>
        </p:nvCxnSpPr>
        <p:spPr>
          <a:xfrm>
            <a:off x="3290400" y="3681000"/>
            <a:ext cx="1080" cy="253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37"/>
          <p:cNvSpPr/>
          <p:nvPr/>
        </p:nvSpPr>
        <p:spPr>
          <a:xfrm>
            <a:off x="1908000" y="4869000"/>
            <a:ext cx="273528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onsider referral to Hillingdon Paediatric Asthma Tea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(See box 2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44"/>
          <p:cNvCxnSpPr/>
          <p:nvPr/>
        </p:nvCxnSpPr>
        <p:spPr>
          <a:xfrm>
            <a:off x="3309480" y="4519440"/>
            <a:ext cx="1080" cy="300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6" name="TextBox 17"/>
          <p:cNvSpPr/>
          <p:nvPr/>
        </p:nvSpPr>
        <p:spPr>
          <a:xfrm>
            <a:off x="2124000" y="318960"/>
            <a:ext cx="4392720" cy="30708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cute asthma presenting in primary care (GP practic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Straight Arrow Connector 20"/>
          <p:cNvCxnSpPr/>
          <p:nvPr/>
        </p:nvCxnSpPr>
        <p:spPr>
          <a:xfrm flipH="1">
            <a:off x="4288680" y="1209240"/>
            <a:ext cx="3960" cy="275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33"/>
          <p:cNvCxnSpPr/>
          <p:nvPr/>
        </p:nvCxnSpPr>
        <p:spPr>
          <a:xfrm flipH="1">
            <a:off x="3301200" y="2789280"/>
            <a:ext cx="3960" cy="2944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41"/>
          <p:cNvSpPr/>
          <p:nvPr/>
        </p:nvSpPr>
        <p:spPr>
          <a:xfrm>
            <a:off x="5364000" y="2935440"/>
            <a:ext cx="3311640" cy="118908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Box 1:  Structured review before dischar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wheeze triggers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6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control/ asthma control test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5) 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Review inhaler technique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3) 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Review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dherence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tep up treatment using BTS guideli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rovide asthma self-management education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rovide a written asthma action plan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7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dvise on home peak flow monitoring (Age &gt;6 year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2"/>
          <p:cNvSpPr/>
          <p:nvPr/>
        </p:nvSpPr>
        <p:spPr>
          <a:xfrm>
            <a:off x="5380200" y="4321080"/>
            <a:ext cx="3279600" cy="131076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Box 2:  Refer patients to  Hillingdon Paediatric Asthma Team if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nable to arrange GP follow up in 2 working day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 acute asthma presentation within last 12 month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chool absence due to asthma/wheez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ymptomatic between acute episod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Not controlled on BTS step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Known asthmatic and never had a GP revie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Life threatening asthma/ difficult asthma/ psychosocial risk factors/ other specific concer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Fax 01895 279901/ Email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2868480" y="871560"/>
            <a:ext cx="282096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hild with acute asthma or pre-school wheez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ge 1-15yrs , attends GP practi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2"/>
          <p:cNvSpPr/>
          <p:nvPr/>
        </p:nvSpPr>
        <p:spPr>
          <a:xfrm>
            <a:off x="2651040" y="1496880"/>
            <a:ext cx="328140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Manage  according to BTS and  NICE  guidan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se EMIS Template 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56"/>
          <p:cNvCxnSpPr>
            <a:endCxn id="101" idx="0"/>
          </p:cNvCxnSpPr>
          <p:nvPr/>
        </p:nvCxnSpPr>
        <p:spPr>
          <a:xfrm flipH="1">
            <a:off x="4277880" y="626760"/>
            <a:ext cx="8640" cy="244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TextBox 66"/>
          <p:cNvSpPr/>
          <p:nvPr/>
        </p:nvSpPr>
        <p:spPr>
          <a:xfrm>
            <a:off x="2476440" y="2430360"/>
            <a:ext cx="1656000" cy="33732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Improves and saf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o discharge ho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9"/>
          <p:cNvSpPr/>
          <p:nvPr/>
        </p:nvSpPr>
        <p:spPr>
          <a:xfrm>
            <a:off x="2135160" y="3073320"/>
            <a:ext cx="2333520" cy="58068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Structured discharge review (Box 1)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before discharge  home to identify modifiable risk factors for repeat attac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se EMIS Template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75"/>
          <p:cNvCxnSpPr/>
          <p:nvPr/>
        </p:nvCxnSpPr>
        <p:spPr>
          <a:xfrm flipH="1">
            <a:off x="3326760" y="2081160"/>
            <a:ext cx="6840" cy="34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TextBox 53"/>
          <p:cNvSpPr/>
          <p:nvPr/>
        </p:nvSpPr>
        <p:spPr>
          <a:xfrm>
            <a:off x="4610160" y="2430360"/>
            <a:ext cx="1468440" cy="33732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No improvemen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fer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o P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ediatric A&amp;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55"/>
          <p:cNvCxnSpPr/>
          <p:nvPr/>
        </p:nvCxnSpPr>
        <p:spPr>
          <a:xfrm flipH="1">
            <a:off x="5257080" y="2087280"/>
            <a:ext cx="1080" cy="34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36"/>
          <p:cNvCxnSpPr/>
          <p:nvPr/>
        </p:nvCxnSpPr>
        <p:spPr>
          <a:xfrm>
            <a:off x="3333240" y="3679560"/>
            <a:ext cx="1080" cy="254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Straight Arrow Connector 20"/>
          <p:cNvCxnSpPr/>
          <p:nvPr/>
        </p:nvCxnSpPr>
        <p:spPr>
          <a:xfrm flipH="1">
            <a:off x="4291920" y="1209240"/>
            <a:ext cx="1080" cy="275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1" name="Straight Arrow Connector 33"/>
          <p:cNvCxnSpPr>
            <a:stCxn id="104" idx="2"/>
          </p:cNvCxnSpPr>
          <p:nvPr/>
        </p:nvCxnSpPr>
        <p:spPr>
          <a:xfrm>
            <a:off x="3304800" y="2768400"/>
            <a:ext cx="1080" cy="300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18"/>
          <p:cNvSpPr/>
          <p:nvPr/>
        </p:nvSpPr>
        <p:spPr>
          <a:xfrm>
            <a:off x="1835280" y="318960"/>
            <a:ext cx="4968720" cy="30708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cute asthma presenting to the Urgent Care 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2492280" y="3943440"/>
            <a:ext cx="1714680" cy="58068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atient Champion/Health connecter arranges  primary care follow up within 2 working days   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16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6"/>
          <p:cNvCxnSpPr/>
          <p:nvPr/>
        </p:nvCxnSpPr>
        <p:spPr>
          <a:xfrm>
            <a:off x="3309480" y="4519440"/>
            <a:ext cx="1080" cy="300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1959120" y="4890960"/>
            <a:ext cx="273672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onsider referral to Hillingdon Paediatric Asthma Tea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(See box 2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5364000" y="2935440"/>
            <a:ext cx="3311640" cy="118908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Box 1:  Structured review before dischar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wheeze triggers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6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control/ asthma control test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5) 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Review inhaler technique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3) 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Review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dherence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tep up treatment using BTS guideli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rovide asthma self-management education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rovide a written asthma action plan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7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dvise on home peak flow monitoring (Age &gt;6 year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1"/>
          <p:cNvSpPr/>
          <p:nvPr/>
        </p:nvSpPr>
        <p:spPr>
          <a:xfrm>
            <a:off x="5380200" y="4321080"/>
            <a:ext cx="3279600" cy="131076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Box 2:  Refer patients to  Hillingdon Paediatric Asthma Team if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nable to arrange GP follow up in 2 working day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 acute asthma presentation within last 12 month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chool absence due to asthma/wheez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ymptomatic between acute episod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Not controlled on BTS step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Known asthmatic and never had a GP revie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Life threatening asthma/ difficult asthma/ psychosocial risk factors/ other specific concer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Fax 01895 279901/ Email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2076480" y="871560"/>
            <a:ext cx="282096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hild with acute asthma or pre-school wheez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ge 1-15yrs , attends paediatric A+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1859040" y="1496880"/>
            <a:ext cx="3281400" cy="21564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Manage  according to Hillingdon Hospital acute asthma guideli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Straight Arrow Connector 56"/>
          <p:cNvCxnSpPr>
            <a:endCxn id="118" idx="0"/>
          </p:cNvCxnSpPr>
          <p:nvPr/>
        </p:nvCxnSpPr>
        <p:spPr>
          <a:xfrm flipH="1">
            <a:off x="3485880" y="626760"/>
            <a:ext cx="8640" cy="244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TextBox 66"/>
          <p:cNvSpPr/>
          <p:nvPr/>
        </p:nvSpPr>
        <p:spPr>
          <a:xfrm>
            <a:off x="1684440" y="2347920"/>
            <a:ext cx="1655640" cy="33732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Improves and saf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o discharge home from A+E/ PO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9"/>
          <p:cNvSpPr/>
          <p:nvPr/>
        </p:nvSpPr>
        <p:spPr>
          <a:xfrm>
            <a:off x="1343160" y="3073320"/>
            <a:ext cx="2333520" cy="58068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Structured asthma review before discharge (Box 1)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o identify modifiable risk factors for repeat attac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se Hospital guideline (In Box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75"/>
          <p:cNvCxnSpPr/>
          <p:nvPr/>
        </p:nvCxnSpPr>
        <p:spPr>
          <a:xfrm flipH="1">
            <a:off x="2520360" y="1968480"/>
            <a:ext cx="6840" cy="34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53"/>
          <p:cNvSpPr/>
          <p:nvPr/>
        </p:nvSpPr>
        <p:spPr>
          <a:xfrm>
            <a:off x="3809880" y="2355840"/>
            <a:ext cx="1468440" cy="33732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No improvemen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dmit to children's war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Straight Arrow Connector 55"/>
          <p:cNvCxnSpPr/>
          <p:nvPr/>
        </p:nvCxnSpPr>
        <p:spPr>
          <a:xfrm flipH="1">
            <a:off x="4465080" y="1977840"/>
            <a:ext cx="1080" cy="34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Straight Arrow Connector 36"/>
          <p:cNvCxnSpPr/>
          <p:nvPr/>
        </p:nvCxnSpPr>
        <p:spPr>
          <a:xfrm>
            <a:off x="2541240" y="3679560"/>
            <a:ext cx="1080" cy="254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Straight Arrow Connector 20"/>
          <p:cNvCxnSpPr/>
          <p:nvPr/>
        </p:nvCxnSpPr>
        <p:spPr>
          <a:xfrm flipH="1">
            <a:off x="3499560" y="1209240"/>
            <a:ext cx="1080" cy="275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Straight Arrow Connector 33"/>
          <p:cNvCxnSpPr>
            <a:stCxn id="121" idx="2"/>
          </p:cNvCxnSpPr>
          <p:nvPr/>
        </p:nvCxnSpPr>
        <p:spPr>
          <a:xfrm>
            <a:off x="2512800" y="2687400"/>
            <a:ext cx="1080" cy="300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9" name="TextBox 18"/>
          <p:cNvSpPr/>
          <p:nvPr/>
        </p:nvSpPr>
        <p:spPr>
          <a:xfrm>
            <a:off x="1042920" y="318960"/>
            <a:ext cx="4969080" cy="30708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cute asthma presenting to the Hospit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1771560" y="4621320"/>
            <a:ext cx="171468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dvise parent to book Primary care follow up within 2 working days  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16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1" name="Straight Arrow Connector 26"/>
          <p:cNvCxnSpPr/>
          <p:nvPr/>
        </p:nvCxnSpPr>
        <p:spPr>
          <a:xfrm>
            <a:off x="2557080" y="4321080"/>
            <a:ext cx="1080" cy="300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2" name="TextBox 27"/>
          <p:cNvSpPr/>
          <p:nvPr/>
        </p:nvSpPr>
        <p:spPr>
          <a:xfrm>
            <a:off x="1182600" y="3943440"/>
            <a:ext cx="273708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onsider referral to Hillingdon Paediatric Asthma Tea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(See box 2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0"/>
          <p:cNvSpPr/>
          <p:nvPr/>
        </p:nvSpPr>
        <p:spPr>
          <a:xfrm>
            <a:off x="5668920" y="3405240"/>
            <a:ext cx="3311640" cy="118908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Box 1:  Structured review before dischar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wheeze triggers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6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control/ asthma control test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5) 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Review inhaler technique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3) 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Review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dherence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tep up treatment using BTS guideli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rovide asthma self-management education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rovide a written asthma action plan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27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dvise on home peak flow monitoring (Age &gt;6 year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1"/>
          <p:cNvSpPr/>
          <p:nvPr/>
        </p:nvSpPr>
        <p:spPr>
          <a:xfrm>
            <a:off x="5651640" y="4761000"/>
            <a:ext cx="3281400" cy="131076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Box 2:  Refer patients to  Hillingdon Paediatric Asthma Team if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nable to arrange GP follow up in 2 working day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 acute asthma presentation within last 12 month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chool absence due to asthma/wheez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ymptomatic between acute episod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Not controlled on BTS step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Known asthmatic and never had a GP revie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Life threatening asthma/ difficult asthma/ psychosocial risk factors/ other specific concer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Fax 01895 279901/ Email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4149720" y="3057480"/>
            <a:ext cx="1274760" cy="118908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Hillingdon Paediatric Respiratory Team review before discharge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(2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HPAT available Mon-Fri.  Patients not seen will have EPROS reviewed and be followed up as requir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22"/>
          <p:cNvCxnSpPr/>
          <p:nvPr/>
        </p:nvCxnSpPr>
        <p:spPr>
          <a:xfrm>
            <a:off x="4559040" y="2706840"/>
            <a:ext cx="1080" cy="367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24"/>
          <p:cNvCxnSpPr>
            <a:endCxn id="130" idx="3"/>
          </p:cNvCxnSpPr>
          <p:nvPr/>
        </p:nvCxnSpPr>
        <p:spPr>
          <a:xfrm flipH="1">
            <a:off x="3485880" y="4321080"/>
            <a:ext cx="799200" cy="4708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95400" y="1316160"/>
            <a:ext cx="2762280" cy="167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thma Friendly School                                                             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7, 18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Named Asthma Champion – responsible for asthma in school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Register of all known asthmatic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Management plan for known asthmatic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thma Champion links with community  Asthma services &amp;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ttends Annual Asthma Workshop in Hillingd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Clear asthma policy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ccessible inhaler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nnual training for sta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Display of emergency plan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Emergency inhaler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nnual asthma audi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1"/>
          <p:cNvSpPr/>
          <p:nvPr/>
        </p:nvSpPr>
        <p:spPr>
          <a:xfrm>
            <a:off x="5148360" y="3457440"/>
            <a:ext cx="3622680" cy="179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thma train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ll welfare  officers /school nurses/ Asthma Champions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to attend asthma workshop annually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(mandatory –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held twice yearly by specialist team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t least one person in every school is trained in managing asthma (i.e. holds a recognised certificate of competence e.g. asthma diploma) – </a:t>
            </a:r>
            <a:r>
              <a:rPr b="0" lang="en-GB" sz="800" spc="-1" strike="noStrike">
                <a:solidFill>
                  <a:srgbClr val="800080"/>
                </a:solidFill>
                <a:latin typeface="Calibri"/>
                <a:ea typeface="Arial"/>
              </a:rPr>
              <a:t>COULD THIS BE ALISONS WORKSHOP CERTIFICATE? – ASTHMA DIPLOMA NOT AVAILABLE FOR WELFARE OFFICER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chool nurses with Asthma Diploma to provide asthma training to entire school (30 minute session focusing on key messages)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chool nurses with an Asthma Diploma to run Asthma education sessions (every term) supporting peers, parental support, access to secondary schools, focus groups. (include all students)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614760" y="206280"/>
            <a:ext cx="1081080" cy="459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hild with diagnosed asthma or wheeze in school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327480" y="917640"/>
            <a:ext cx="1655640" cy="1067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taff member has concern of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Medication us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School absenc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Participation in curriculu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Discuss concerns with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thma Champion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5330880" y="1119240"/>
            <a:ext cx="1544760" cy="8895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Asthma champion to complete monthly audit form and fax to Paediatric Respiratory Team &amp; school nurse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18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870200" y="4710240"/>
            <a:ext cx="1584360" cy="459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spiratory specialist nurse arranges appropriate review and follow 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3265560" y="2224080"/>
            <a:ext cx="1606320" cy="6267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thma champion contacts parents and provides letter recommending asthma review at GP practice be arrang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" name="Straight Arrow Connector 12"/>
          <p:cNvCxnSpPr>
            <a:stCxn id="140" idx="2"/>
          </p:cNvCxnSpPr>
          <p:nvPr/>
        </p:nvCxnSpPr>
        <p:spPr>
          <a:xfrm>
            <a:off x="4154040" y="667800"/>
            <a:ext cx="2520" cy="25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18"/>
          <p:cNvCxnSpPr>
            <a:stCxn id="141" idx="2"/>
          </p:cNvCxnSpPr>
          <p:nvPr/>
        </p:nvCxnSpPr>
        <p:spPr>
          <a:xfrm flipH="1">
            <a:off x="4153680" y="1995480"/>
            <a:ext cx="1080" cy="210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20"/>
          <p:cNvCxnSpPr>
            <a:stCxn id="144" idx="2"/>
          </p:cNvCxnSpPr>
          <p:nvPr/>
        </p:nvCxnSpPr>
        <p:spPr>
          <a:xfrm flipH="1">
            <a:off x="3344040" y="2870280"/>
            <a:ext cx="724680" cy="210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24"/>
          <p:cNvCxnSpPr/>
          <p:nvPr/>
        </p:nvCxnSpPr>
        <p:spPr>
          <a:xfrm>
            <a:off x="4983120" y="1445760"/>
            <a:ext cx="348480" cy="5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29"/>
          <p:cNvCxnSpPr>
            <a:stCxn id="150" idx="2"/>
          </p:cNvCxnSpPr>
          <p:nvPr/>
        </p:nvCxnSpPr>
        <p:spPr>
          <a:xfrm flipH="1">
            <a:off x="2758320" y="3435120"/>
            <a:ext cx="445320" cy="3560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1" name="Straight Arrow Connector 36"/>
          <p:cNvCxnSpPr>
            <a:endCxn id="143" idx="0"/>
          </p:cNvCxnSpPr>
          <p:nvPr/>
        </p:nvCxnSpPr>
        <p:spPr>
          <a:xfrm flipH="1">
            <a:off x="2661480" y="4448160"/>
            <a:ext cx="73800" cy="262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2" name="TextBox 30"/>
          <p:cNvSpPr/>
          <p:nvPr/>
        </p:nvSpPr>
        <p:spPr>
          <a:xfrm>
            <a:off x="468360" y="47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chool asthma liaison &amp; train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0"/>
          <p:cNvSpPr/>
          <p:nvPr/>
        </p:nvSpPr>
        <p:spPr>
          <a:xfrm>
            <a:off x="7236000" y="222120"/>
            <a:ext cx="1668240" cy="1067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Asthma Champ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Named lead responsible &amp; accountable for asthma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Delivers London’s Ambitions for Asthma including: proactive, accessible care &amp;  co-ordinated car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Attends asthma training workshop annuall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7"/>
          <p:cNvSpPr/>
          <p:nvPr/>
        </p:nvSpPr>
        <p:spPr>
          <a:xfrm>
            <a:off x="2146320" y="3774960"/>
            <a:ext cx="1198440" cy="6267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Asthma champion discusses with Paediatric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ial"/>
              </a:rPr>
              <a:t>Respiratory Tea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9"/>
          <p:cNvSpPr/>
          <p:nvPr/>
        </p:nvSpPr>
        <p:spPr>
          <a:xfrm>
            <a:off x="4356000" y="3094200"/>
            <a:ext cx="1584360" cy="215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oncerns resolv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42"/>
          <p:cNvSpPr/>
          <p:nvPr/>
        </p:nvSpPr>
        <p:spPr>
          <a:xfrm>
            <a:off x="2411280" y="3097080"/>
            <a:ext cx="1584360" cy="337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ontinues to have school asthma sympto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6" name="Straight Arrow Connector 51"/>
          <p:cNvCxnSpPr>
            <a:stCxn id="144" idx="2"/>
          </p:cNvCxnSpPr>
          <p:nvPr/>
        </p:nvCxnSpPr>
        <p:spPr>
          <a:xfrm>
            <a:off x="4068720" y="2870280"/>
            <a:ext cx="575280" cy="210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0"/>
          <p:cNvSpPr/>
          <p:nvPr/>
        </p:nvSpPr>
        <p:spPr>
          <a:xfrm>
            <a:off x="468360" y="47628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ommunity paediatric asthma clinic path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1"/>
          <p:cNvSpPr/>
          <p:nvPr/>
        </p:nvSpPr>
        <p:spPr>
          <a:xfrm>
            <a:off x="3571920" y="2825640"/>
            <a:ext cx="1954080" cy="9457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hild will be reviewed in one of the weekly paediatric community clinics in Hillingdon borough (depending on postcode)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Hay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Yiewsley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North of the borough?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3"/>
          <p:cNvSpPr/>
          <p:nvPr/>
        </p:nvSpPr>
        <p:spPr>
          <a:xfrm>
            <a:off x="2540160" y="406440"/>
            <a:ext cx="4016160" cy="8895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         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ferrals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26)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2 working day primary care review following an acute asthma episod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GP/ HV/ welfare officer/ school nurse/practice nurse referral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Hospital inpatient follow up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&amp;E or UCC referral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5"/>
          <p:cNvSpPr/>
          <p:nvPr/>
        </p:nvSpPr>
        <p:spPr>
          <a:xfrm>
            <a:off x="6948360" y="930240"/>
            <a:ext cx="1656000" cy="62676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rain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- Act as hub for training all Hillingdon professionals in Asthma manageme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Straight Arrow Connector 6"/>
          <p:cNvCxnSpPr/>
          <p:nvPr/>
        </p:nvCxnSpPr>
        <p:spPr>
          <a:xfrm>
            <a:off x="4535280" y="1325520"/>
            <a:ext cx="6840" cy="232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2" name="TextBox 8"/>
          <p:cNvSpPr/>
          <p:nvPr/>
        </p:nvSpPr>
        <p:spPr>
          <a:xfrm>
            <a:off x="3446640" y="1577880"/>
            <a:ext cx="2408040" cy="45900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fer using community clinic referral form/ letter/ checklis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EMIS TEMPLATE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578400" y="2227320"/>
            <a:ext cx="1954080" cy="337320"/>
          </a:xfrm>
          <a:prstGeom prst="flowChart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ferrals triaged by Paediatric Respiratory Team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Straight Arrow Connector 10"/>
          <p:cNvCxnSpPr/>
          <p:nvPr/>
        </p:nvCxnSpPr>
        <p:spPr>
          <a:xfrm>
            <a:off x="4517640" y="2037960"/>
            <a:ext cx="18360" cy="189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5" name="Straight Arrow Connector 13"/>
          <p:cNvCxnSpPr/>
          <p:nvPr/>
        </p:nvCxnSpPr>
        <p:spPr>
          <a:xfrm>
            <a:off x="4554000" y="2565000"/>
            <a:ext cx="1080" cy="2660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6" name="Straight Arrow Connector 20"/>
          <p:cNvCxnSpPr/>
          <p:nvPr/>
        </p:nvCxnSpPr>
        <p:spPr>
          <a:xfrm>
            <a:off x="4525560" y="3922560"/>
            <a:ext cx="3960" cy="6343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7" name="TextBox 22"/>
          <p:cNvSpPr/>
          <p:nvPr/>
        </p:nvSpPr>
        <p:spPr>
          <a:xfrm>
            <a:off x="3697200" y="4533840"/>
            <a:ext cx="1657440" cy="1152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Options after first revie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Discharge back to GP practice once asthma under contro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Refer to Hospital clini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Follow up in clinic if GP practice not able to provide asthma review service in accordance with London Asthma Standard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6948360" y="1859040"/>
            <a:ext cx="1656000" cy="36396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Used as a support network between schools/GPs/HV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6089760" y="2538360"/>
            <a:ext cx="2881080" cy="1310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Other resources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Stop smoking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Signpost to Hillingdon.gov.uk/stopsmok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Parents can call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0800 169 7541 for advi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an attend drop in community clinics/pharmacy clinics based around Hillingdon borough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Provide information leaflets to parent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Obesity managemen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Signpost for self referral to Mend/Fit Teens club – 10session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ferral to hospital dietician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131760" y="1755720"/>
            <a:ext cx="2709720" cy="2162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Referrals: 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800" spc="-1" strike="noStrike" baseline="30000">
                <a:solidFill>
                  <a:srgbClr val="000000"/>
                </a:solidFill>
                <a:latin typeface="Calibri"/>
              </a:rPr>
              <a:t>(26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0000"/>
                </a:solidFill>
                <a:latin typeface="Calibri"/>
              </a:rPr>
              <a:t>If unable to see GP within 2 working days post an acute episode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f 3rd presentation in 12 months to A&amp;E/UC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8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GB" sz="800" spc="-1" strike="noStrike">
                <a:solidFill>
                  <a:srgbClr val="ff0000"/>
                </a:solidFill>
                <a:latin typeface="Calibri"/>
              </a:rPr>
              <a:t> hospital admission in last 12 month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Diagnostic uncertaint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Not controlled on step 3 BT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arental concer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School absence due to asthma/wheez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articipation in curriculum affected by asthma/wheez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Symptomatic between acute episod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Life threatening attac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Known asthmatic, never had review at G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Difficult asth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Other specific concern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12:19:50Z</dcterms:created>
  <dc:creator>itadmin</dc:creator>
  <dc:description/>
  <dc:language>en-US</dc:language>
  <cp:lastModifiedBy>Sara Nelson</cp:lastModifiedBy>
  <cp:lastPrinted>2016-03-10T09:23:43Z</cp:lastPrinted>
  <dcterms:modified xsi:type="dcterms:W3CDTF">2016-04-13T15:41:15Z</dcterms:modified>
  <cp:revision>140</cp:revision>
  <dc:subject/>
  <dc:title>PowerPoint Presentation</dc:title>
</cp:coreProperties>
</file>